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102-338B-4FA0-AB4B-F9BE79A2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3E8-A12A-4E12-84C2-27CDD4E3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694-ED77-402A-8B63-91E7F900F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CF8-7852-4A1B-854F-0FEAABA2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1C4-5E99-43F9-95CA-DA463CDE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1CB-47C6-4BAE-A065-804CF6D8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F62-9B4A-471F-941A-77B6DEA9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6BF2-56A6-4B45-A98E-7C09158D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212-6292-47EC-A0B9-25611626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1F7-938D-4945-ADB1-14C21DCD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29E-C59F-4B9E-AAC8-4CA0FF1C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5E79-A593-4256-8097-A210DE36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E576-63D3-4DE7-81F6-E59E1BEFEF5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題目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五子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200" y="128556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組長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:BN9807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許賀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組員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:BN9806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張正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N9807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吳佳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圖片 4" descr="Z.JPG"/>
          <p:cNvPicPr/>
          <p:nvPr/>
        </p:nvPicPr>
        <p:blipFill>
          <a:blip r:embed="rId2"/>
          <a:stretch/>
        </p:blipFill>
        <p:spPr>
          <a:xfrm>
            <a:off x="2428920" y="1214280"/>
            <a:ext cx="43815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玩家生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142640"/>
            <a:ext cx="8820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HumanPlayer extends BasePlayer implements IPlayer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Overr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void run(List&lt;Point&gt; enemyPoints,Point p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MyPoints().add(p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FreePoints.remove(p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玩家設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erface IPlayer {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下一步棋子，傳入對手已經下的棋子集合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void run(List&lt;Point&gt; enemyPoints, Point point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boolean hasWin(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void setChessboard(IChessboard chessboard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List&lt;Point&gt; getMyPoints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電腦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難度調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電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class AiFactory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final static Map&lt;Integer,IPlayer&gt; ais = new HashMap&lt;Integer, IPlayer&gt;(2);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數字越大，難度越高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static IPlayer getInstance(int level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Player ai = ais.get(level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ai==null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witch (level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ase 1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s.put(level, new ZhuBaJieAi(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reak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ase 2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s.put(level, new SunWuKongAi(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reak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ais.get(level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棋子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設定黑白棋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class Point {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這個性能，設成公有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x;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y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getX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x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Point setX(int x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 = x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hi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getY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Point setY(int y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 = 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hi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Point(int x, int y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 = x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 = 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@Overrid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hashCode() {   // Object class 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hashCode(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是直接傳回其物件的記憶體位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x + 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電腦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基礎設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子棋想法分三個步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一步：根據雙方的當前的形勢迴圈地假設性的分別給自己和對方下一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某個範圍內下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並判斷此棋子能帶來的形勢上的變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能不能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能不能形成我方或敵方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二步：根據上一步結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組合每一步棋子所帶來的所有結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某一步棋子可能形成我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,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叫它半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)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包括敵方和我方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三步：根據使用者給的規則對上一步結果進行排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並選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進攻形、防守形規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標示分析結果當前點位是兩頭通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LIVE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還是只有一頭通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ALF_ALIVE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，封死的棋子分析過程自動屏蔽，不作為待選棋子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static final int ALIVE = 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static final int HALF_ALIVE = 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static final int DEAD = -1;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計算範圍，太大的範圍會有性能問題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class CalcuteRange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t xStart,yStart,xStop,ySto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CalcuteRange(int xStart, int yStart, int xStop, int yStop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Start = xStar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Start = yStar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Stop = xSto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Stop = yStop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分工狀況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負責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61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in Activity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玩家生成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72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玩家設定、電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難度調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74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棋子類、電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礎設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6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72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74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方向棋子判斷 、兩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設定 、棋盤和棋盤接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標楷體"/>
                <a:ea typeface="標楷體"/>
              </a:rPr>
              <a:t>謝謝指教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標楷體"/>
                <a:ea typeface="標楷體"/>
              </a:rPr>
              <a:t>報告到此結束</a:t>
            </a:r>
            <a:r>
              <a:rPr b="0" lang="en-US" sz="88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目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遊戲畫面介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程式介紹及說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棋盤和棋盤接口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方向棋子判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兩名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設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玩家生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玩家設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電腦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難度調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棋子類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電腦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基礎設定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分工狀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遊戲畫面介紹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9080" y="1428840"/>
            <a:ext cx="3686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圖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遊戲開始畫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右鍵單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左鍵雙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圖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為遊戲執行畫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內容版面配置區 3" descr="2.JPG"/>
          <p:cNvPicPr/>
          <p:nvPr/>
        </p:nvPicPr>
        <p:blipFill>
          <a:blip r:embed="rId2"/>
          <a:stretch/>
        </p:blipFill>
        <p:spPr>
          <a:xfrm>
            <a:off x="571680" y="1428840"/>
            <a:ext cx="3348000" cy="2382840"/>
          </a:xfrm>
          <a:prstGeom prst="rect">
            <a:avLst/>
          </a:prstGeom>
          <a:ln w="0">
            <a:noFill/>
          </a:ln>
        </p:spPr>
      </p:pic>
      <p:pic>
        <p:nvPicPr>
          <p:cNvPr id="49" name="圖片 4" descr="Z.JPG"/>
          <p:cNvPicPr/>
          <p:nvPr/>
        </p:nvPicPr>
        <p:blipFill>
          <a:blip r:embed="rId3"/>
          <a:stretch/>
        </p:blipFill>
        <p:spPr>
          <a:xfrm>
            <a:off x="571680" y="4000680"/>
            <a:ext cx="33732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圖片 14" descr="3.JPG"/>
          <p:cNvPicPr/>
          <p:nvPr/>
        </p:nvPicPr>
        <p:blipFill>
          <a:blip r:embed="rId2"/>
          <a:stretch/>
        </p:blipFill>
        <p:spPr>
          <a:xfrm>
            <a:off x="539640" y="2133720"/>
            <a:ext cx="3513240" cy="2500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284720" y="692280"/>
            <a:ext cx="440064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圖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結束畫面，可重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新選擇遊戲方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程式介紹及說明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棋盤和棋盤接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畫棋盤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List&lt;Line&gt; lines = new ArrayList&lt;Line&gt;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void drawChssboardLines(Canvas canvas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for (Line line : lines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anvas.drawLine(line.xStart, line.yStart, line.xStop, line.yStop, pain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畫線設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XY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座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lass Line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float xStart,yStart,xStop,ySto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Line(float xStart, float yStart, float xStop, float yStop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Start = xStar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Start = yStar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Stop = xSto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Stop = yStop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方向棋子判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abstract class BasePlayer implements IPlayer {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已下的棋子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List&lt;Point&gt; myPoints = new ArrayList&lt;Point&gt;(200);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棋盤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IChessboard chessboard;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棋盤最大橫坐標和縱標，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int maxX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int maxY;</a:t>
            </a:r>
            <a:br>
              <a:rPr sz="1400"/>
            </a:b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所有空白棋子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List&lt;Point&gt; allFreePoints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@Overrid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final List&lt;Point&gt; getMyPoints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yPoin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@Overrid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void setChessboard(IChessboard chessboard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chessboard = chessboar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llFreePoints = chessboard.getFreePoints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xX = chessboard.getMaxX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xY = chessboard.getMaxY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yPoints.clear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final Point temp = new Point(0, 0);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是否是否贏了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final boolean hasWin(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yPoints.size()&lt;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fals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oint point = myPoints.get(myPoints.size()-1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t coun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t x=point.getX(),y=point.getY();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橫向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-1)) &amp;&amp; temp.getX()&gt;=0 &amp;&amp; count&lt;5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+1)) &amp;&amp; temp.getX()&lt;maxX &amp;&amp; count&lt;5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縱向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Y(temp.getY()-1)) &amp;&amp; temp.getY()&gt;=0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Y(temp.getY()+1)) &amp;&amp; temp.getY()&lt;maxY &amp;&amp; count&lt;5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正斜向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=1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-1).setY(temp.getY()+1)) &amp;&amp; temp.getX()&gt;=0 &amp;&amp; temp.getY()&lt;maxY) 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+1).setY(temp.getY()-1)) &amp;&amp; temp.getX()&lt;maxX &amp;&amp; temp.getY()&gt;=0 &amp;&amp; count&lt; 6) 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反斜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\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= 1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-1).setY(temp.getY()-1)) &amp;&amp; temp.getX()&gt;=0 &amp;&amp; temp.getY()&gt;=0) 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+1).setY(temp.getY()+1)) &amp;&amp; temp.getX()&lt;maxX &amp;&amp; temp.getY()&lt;maxY &amp;&amp; count&lt;5 ) 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false;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}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兩名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設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class SunWuKongAi extends BaseComputerAi {</a:t>
            </a:r>
            <a:br>
              <a:rPr sz="1800"/>
            </a:b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改變順序可以實現防為主還是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Point getBestPoint(){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要單活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且我方沒有半個活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上的棋，只能防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oint mostBest = getBestPoint(computerDouble3Alives, human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stBest = getBestPoint(computer3Alives, human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stBest = getBestPoint(humanDouble3Alives, computer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stBest = getBestPoint(human3Alives, computer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stBest = getBestPoint(human4HalfAlives, computer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6:03:47Z</dcterms:created>
  <dc:creator>hit</dc:creator>
  <dc:description/>
  <dc:language>en-US</dc:language>
  <cp:lastModifiedBy>Hank</cp:lastModifiedBy>
  <dcterms:modified xsi:type="dcterms:W3CDTF">2012-06-21T12:23:09Z</dcterms:modified>
  <cp:revision>25</cp:revision>
  <dc:subject/>
  <dc:title>題目:五子棋</dc:title>
</cp:coreProperties>
</file>