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3A6-4EEC-4839-B144-9364606E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D4A-4BE9-40FD-B6DF-49D27B9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435-C806-4B55-862D-F30984AE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3E8-C25A-4F54-8301-7C29A57F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BCC-BC9C-449F-B296-82A8C3E1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5DC-246D-4C95-A1C4-8B75249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8E1-9C9D-4617-AAAB-3996367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074-5194-4189-8ACE-A43175ED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324-4F80-481B-AF20-99C33624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9ED-85D1-440E-99EE-C32293E2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2A3-0C08-4503-9654-749412E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689-C5FA-4A00-9BCB-77267383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6986-24E1-41FF-B9E3-81455AF0C88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題目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五子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12855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組長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:BN9807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許賀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組員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:BN9806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張正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N9807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吳佳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圖片 4" descr="Z.JPG"/>
          <p:cNvPicPr/>
          <p:nvPr/>
        </p:nvPicPr>
        <p:blipFill>
          <a:blip r:embed="rId2"/>
          <a:stretch/>
        </p:blipFill>
        <p:spPr>
          <a:xfrm>
            <a:off x="2428920" y="1214280"/>
            <a:ext cx="43815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玩家生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142640"/>
            <a:ext cx="8820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HumanPlayer extends BasePlayer implements IPlayer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Over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void run(List&lt;Point&gt; enemyPoints,Point p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MyPoints().add(p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FreePoints.remove(p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玩家設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erface IPlayer {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下一步棋子，傳入對手已經下的棋子集合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void run(List&lt;Point&gt; enemyPoints, Point point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boolean hasWin(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void setChessboard(IChessboard chessboard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List&lt;Point&gt; getMyPoints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難度調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class AiFactory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final static Map&lt;Integer,IPlayer&gt; ais = new HashMap&lt;Integer, IPlayer&gt;(2);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字越大，難度越高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static IPlayer getInstance(int level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Player ai = ais.get(leve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ai==null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witch (level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se 1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s.put(level, new ZhuBaJieAi(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eak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se 2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s.put(level, new SunWuKongAi(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eak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ais.get(leve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棋子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設定黑白棋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class Point {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這個性能，設成公有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x;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y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getX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Point setX(int x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 = 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hi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getY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Point setY(int y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 =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hi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Point(int x, int y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 = 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 =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@Overri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hashCode() {   // Object class 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hashCode(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直接傳回其物件的記憶體位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x +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基礎設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子棋想法分三個步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一步：根據雙方的當前的形勢迴圈地假設性的分別給自己和對方下一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某個範圍內下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判斷此棋子能帶來的形勢上的變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能不能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能不能形成我方或敵方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步：根據上一步結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組合每一步棋子所帶來的所有結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某一步棋子可能形成我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,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叫它半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敵方和我方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三步：根據使用者給的規則對上一步結果進行排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選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進攻形、防守形規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標示分析結果當前點位是兩頭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LIVE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還是只有一頭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ALF_ALIVE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，封死的棋子分析過程自動屏蔽，不作為待選棋子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static final int ALIVE = 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static final int HALF_ALIVE =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static final int DEAD = -1;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計算範圍，太大的範圍會有性能問題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class CalcuteRange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 xStart,yStart,xStop,y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CalcuteRange(int xStart, int yStart, int xStop, int yStop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art = x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art = y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op = x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op = yStop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分工狀況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負責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61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in Activity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玩家生成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2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玩家設定、電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難度調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4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棋子類、電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礎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6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4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方向棋子判斷 、兩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設定 、棋盤和棋盤接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謝謝指教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報告到此結束</a:t>
            </a:r>
            <a:r>
              <a:rPr b="0" lang="en-US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遊戲畫面介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程式介紹及說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棋盤和棋盤接口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方向棋子判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兩名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設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玩家生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玩家設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難度調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棋子類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基礎設定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工狀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遊戲畫面介紹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9080" y="1428840"/>
            <a:ext cx="3686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遊戲開始畫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右鍵單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左鍵雙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為遊戲執行畫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內容版面配置區 3" descr="2.JPG"/>
          <p:cNvPicPr/>
          <p:nvPr/>
        </p:nvPicPr>
        <p:blipFill>
          <a:blip r:embed="rId2"/>
          <a:stretch/>
        </p:blipFill>
        <p:spPr>
          <a:xfrm>
            <a:off x="571680" y="1428840"/>
            <a:ext cx="3348000" cy="2382840"/>
          </a:xfrm>
          <a:prstGeom prst="rect">
            <a:avLst/>
          </a:prstGeom>
          <a:ln w="0">
            <a:noFill/>
          </a:ln>
        </p:spPr>
      </p:pic>
      <p:pic>
        <p:nvPicPr>
          <p:cNvPr id="49" name="圖片 4" descr="Z.JPG"/>
          <p:cNvPicPr/>
          <p:nvPr/>
        </p:nvPicPr>
        <p:blipFill>
          <a:blip r:embed="rId3"/>
          <a:stretch/>
        </p:blipFill>
        <p:spPr>
          <a:xfrm>
            <a:off x="571680" y="4000680"/>
            <a:ext cx="33732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圖片 14" descr="3.JPG"/>
          <p:cNvPicPr/>
          <p:nvPr/>
        </p:nvPicPr>
        <p:blipFill>
          <a:blip r:embed="rId2"/>
          <a:stretch/>
        </p:blipFill>
        <p:spPr>
          <a:xfrm>
            <a:off x="539640" y="2133720"/>
            <a:ext cx="3513240" cy="250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284720" y="692280"/>
            <a:ext cx="44006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結束畫面，可重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新選擇遊戲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程式介紹及說明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棋盤和棋盤接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畫棋盤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List&lt;Line&gt; lines = new ArrayList&lt;Line&gt;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void drawChssboardLines(Canvas canvas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or (Line line : lines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nvas.drawLine(line.xStart, line.yStart, line.xStop, line.yStop, pai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畫線設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XY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座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lass Line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loat xStart,yStart,xStop,y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Line(float xStart, float yStart, float xStop, float yStop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art = x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art = y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op = x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op = yStop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方向棋子判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abstract class BasePlayer implements IPlayer {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已下的棋子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List&lt;Point&gt; myPoints = new ArrayList&lt;Point&gt;(200)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棋盤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IChessboard chessboard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棋盤最大橫坐標和縱標，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int max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int maxY;</a:t>
            </a:r>
            <a:br>
              <a:rPr sz="1400"/>
            </a:b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所有空白棋子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List&lt;Point&gt; allFreePoints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@Overri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final List&lt;Point&gt; getMyPoints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yPoin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@Overri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void setChessboard(IChessboard chessboard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chessboard = chessboar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llFreePoints = chessboard.getFreePoints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X = chessboard.getMaxX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Y = chessboard.getMaxY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yPoints.clear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final Point temp = new Point(0, 0)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是否是否贏了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final boolean hasWin(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yPoints.size()&lt;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fals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oint point = myPoints.get(myPoints.size()-1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 coun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 x=point.getX(),y=point.getY()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橫向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-1)) &amp;&amp; temp.getX()&gt;=0 &amp;&amp; count&lt;5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+1)) &amp;&amp; temp.getX()&lt;maxX &amp;&amp; count&lt;5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縱向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Y(temp.getY()-1)) &amp;&amp; temp.getY()&gt;=0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Y(temp.getY()+1)) &amp;&amp; temp.getY()&lt;maxY &amp;&amp; count&lt;5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正斜向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=1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-1).setY(temp.getY()+1)) &amp;&amp; temp.getX()&gt;=0 &amp;&amp; temp.getY()&lt;maxY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+1).setY(temp.getY()-1)) &amp;&amp; temp.getX()&lt;maxX &amp;&amp; temp.getY()&gt;=0 &amp;&amp; count&lt; 6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\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= 1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-1).setY(temp.getY()-1)) &amp;&amp; temp.getX()&gt;=0 &amp;&amp; temp.getY()&gt;=0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+1).setY(temp.getY()+1)) &amp;&amp; temp.getX()&lt;maxX &amp;&amp; temp.getY()&lt;maxY &amp;&amp; count&lt;5 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false;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}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兩名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設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class SunWuKongAi extends BaseComputerAi {</a:t>
            </a:r>
            <a:br>
              <a:rPr sz="1800"/>
            </a:b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改變順序可以實現防為主還是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Point getBestPoint(){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要單活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且我方沒有半個活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上的棋，只能防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oint mostBest = getBestPoint(computerDouble3Alives, human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computer3Alives, human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humanDouble3Alives, computer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human3Alives, computer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human4HalfAlives, computer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6:03:47Z</dcterms:created>
  <dc:creator>hit</dc:creator>
  <dc:description/>
  <dc:language>en-US</dc:language>
  <cp:lastModifiedBy>Hank</cp:lastModifiedBy>
  <dcterms:modified xsi:type="dcterms:W3CDTF">2012-06-21T12:23:09Z</dcterms:modified>
  <cp:revision>25</cp:revision>
  <dc:subject/>
  <dc:title>題目:五子棋</dc:title>
</cp:coreProperties>
</file>