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10C-D958-44B0-8410-BD8AB428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88E-FF98-459B-B79D-BBCD652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0C1-18AA-401D-929C-E4602F9A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742-ABE6-497F-83AB-2F0DBD55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54D-AB87-4881-BE12-990EACD3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C68-4DAB-414B-B6B4-FCED9A9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341-B330-409B-B874-01A01F4F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D2F-970B-40C6-95D5-72D7DAA9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E85-9B10-44A3-9FC1-126F57A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890-49B1-4125-9870-7F8D942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4A0-F1E6-479C-A458-C265D06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88B-9466-4032-A208-DEAE1965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04F-4EFA-4BFC-A453-AA7A90482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zh.wikipedia.org/wiki/&#35199;&#27915;&#26827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西洋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隊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bn98036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李莫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n98047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張天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陳文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新增點陣圖影像"/>
          <p:cNvPicPr/>
          <p:nvPr/>
        </p:nvPicPr>
        <p:blipFill>
          <a:blip r:embed="rId1"/>
          <a:stretch/>
        </p:blipFill>
        <p:spPr>
          <a:xfrm>
            <a:off x="2286000" y="1600200"/>
            <a:ext cx="4395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移動規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限走一步  可前後左右，斜方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移動前的位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將會等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棋子移動後的位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就是正確移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((row-1)==row2||(row+1)==row2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l-1)==col2||(col+1)==col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皇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新增點陣圖影像2"/>
          <p:cNvPicPr/>
          <p:nvPr/>
        </p:nvPicPr>
        <p:blipFill>
          <a:blip r:embed="rId1"/>
          <a:stretch/>
        </p:blipFill>
        <p:spPr>
          <a:xfrm>
            <a:off x="2286000" y="1600200"/>
            <a:ext cx="4362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移動規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不限步數，可直線移動 ，斜方移動但，不能跳過棋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直線移動 因是水平一動所以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row-row2 =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-col2=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斜方移動   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row-row2=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-col2=y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絕對值互減後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x=row-row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x2=row2-r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y=col-co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y2=col2-c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((row-row2==0||col-col2==0)|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-y==0||x-y2==0||x2-y==0||x2-y2==0&amp;&amp;HitChess(5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皇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騎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新增點陣圖影像5"/>
          <p:cNvPicPr/>
          <p:nvPr/>
        </p:nvPicPr>
        <p:blipFill>
          <a:blip r:embed="rId1"/>
          <a:stretch/>
        </p:blipFill>
        <p:spPr>
          <a:xfrm>
            <a:off x="2057400" y="1600200"/>
            <a:ext cx="4422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騎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移動規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只能前後左右一方移動後   再向斜方在移動一格  可以跳躍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row-row2=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-col2=y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絕對值相加等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所以去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向前後左右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等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位置就是正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x=row-row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x2=row2-r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y=col-co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y2=col2-c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((x != 0 &amp;&amp; y != 0 &amp;&amp; x2 != 0 &amp;&amp; y2 != 0 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((x+y==3||x+y2==3||x2+y==3||x2+y2==3} {return true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騎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teacher\桌面\未命名.bmp"/>
          <p:cNvPicPr/>
          <p:nvPr/>
        </p:nvPicPr>
        <p:blipFill>
          <a:blip r:embed="rId1"/>
          <a:stretch/>
        </p:blipFill>
        <p:spPr>
          <a:xfrm>
            <a:off x="2514600" y="160020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教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新增點陣圖影像4"/>
          <p:cNvPicPr/>
          <p:nvPr/>
        </p:nvPicPr>
        <p:blipFill>
          <a:blip r:embed="rId1"/>
          <a:stretch/>
        </p:blipFill>
        <p:spPr>
          <a:xfrm>
            <a:off x="2438280" y="1676520"/>
            <a:ext cx="4300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教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移動規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不限步數    只能向斜方移動   不能跳過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斜方移動   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row-row2=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-col2=y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絕對值互減後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x=row-row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x2=row2-r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y=col-co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y2=col2-c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((x-y==0||x-y2==0||x2-y==0||x2-y2==0)&amp;&amp;HitChess(4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rue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城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新增點陣圖影像3"/>
          <p:cNvPicPr/>
          <p:nvPr/>
        </p:nvPicPr>
        <p:blipFill>
          <a:blip r:embed="rId1"/>
          <a:stretch/>
        </p:blipFill>
        <p:spPr>
          <a:xfrm>
            <a:off x="2362320" y="1523880"/>
            <a:ext cx="4384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程式流程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棋盤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棋盤文本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棋盤畫面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棋子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皇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騎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教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城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士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是否跳過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城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移動規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不限步數 只能向直線移動   不能跳過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直線移動 </a:t>
            </a: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row-row2=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-col2=y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絕對值互減後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(((row-row2==0||(col-col2==0)))&amp;&amp;HitChess(3)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tru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士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新增點陣圖影像6"/>
          <p:cNvPicPr/>
          <p:nvPr/>
        </p:nvPicPr>
        <p:blipFill>
          <a:blip r:embed="rId1"/>
          <a:stretch/>
        </p:blipFill>
        <p:spPr>
          <a:xfrm>
            <a:off x="2286000" y="1600200"/>
            <a:ext cx="42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士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移動規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限走一步，無棋可吃時只能前進，吃棋時走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1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判定前方斜角是否有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有 就可直走或斜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無 就前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(row-1 &gt;=0&amp;&amp;col-1&gt;=0&amp;&amp;table[row-1][col-1]&lt;1 ) //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判定 斜左是否有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        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直走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(((row-1)==row2&amp;&amp;col==col2&amp;&amp;table[row2][col2]==1) //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直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|((row-1)==row2&amp;&amp;(col-1)==col2))//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左</a:t>
            </a:r>
            <a:r>
              <a:rPr b="0" lang="zh-TW" sz="1400" spc="-1" strike="noStrike" u="sng">
                <a:solidFill>
                  <a:srgbClr val="000000"/>
                </a:solidFill>
                <a:uFillTx/>
                <a:latin typeface="Arial"/>
              </a:rPr>
              <a:t>斜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return tru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((row-1)==row2&amp;&amp;col==col2&amp;&amp;table[row2][col2]==1)    //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向前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tru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是否跳過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規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在城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教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皇后在移動中，如有棋子檔著就無法移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想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用迴圈跑出兩點間所有點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值如不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就是有棋檔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程式化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x= row    ,y=col;    /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點選  的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x2=row2,y2=col2;//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放開  的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ean bool=true;  //false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有撞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(x&lt;x2 &amp;&amp; y==y2){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++;       //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跳過自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(;x&lt;x2;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(table[x][col] !=1){bool=false;continue;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參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wiki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西洋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zh.wikipedia.org/wiki/%E8%A5%BF%E6%B4%8B%E6%A3%8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黑白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-android.com/developer/thread-3059-1-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流程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圖表1"/>
          <p:cNvPicPr/>
          <p:nvPr/>
        </p:nvPicPr>
        <p:blipFill>
          <a:blip r:embed="rId1"/>
          <a:stretch/>
        </p:blipFill>
        <p:spPr>
          <a:xfrm>
            <a:off x="1676520" y="1162080"/>
            <a:ext cx="57909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棋盤建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棋盤文本建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以迴圈建立出一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*8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內容值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的二維陣列表名稱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，在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*8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看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軸輸入棋子對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61960" y="12193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 -2  -4  -6  -5 -4 -2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 -7  -7  -7  -7 -7 -7 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1   1   1   1   1   1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1   1   1   1   1   1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1   1   1   1   1   1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1   1   1   1   1   1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 7   7   7   7   7   7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2   4   6   5   4   2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棋盤文本建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lassActivit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reat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運作時，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執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iew.resetTiles(19);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以建立大小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點陣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itmap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陣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iew.loadTile(key,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;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與圖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連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表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View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View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會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圖片做對應後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棋盤畫面建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棋盤畫面建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圖片1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棋子移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按下與放下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uc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會傳出，按下時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棋子移動前的位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放開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棋子移動後的位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2-06-21T02:42:2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